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BB2-AF26-4F9F-894C-259C6E1F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D29-20DC-4BE2-AD4C-5F1DCE8B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2F6-A8EB-49B7-B9BA-1BEC98D8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A8F-5E40-4FB8-99E7-A203A663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1CBD-E2FB-4827-B2E8-B06896F5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B5AC-2F58-431A-84B5-7B309146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57BF-8BC0-4B87-AD4D-AE3DC0BE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885-8E0E-4D06-B724-35ACF5CC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8EBE-A2CB-4CD1-8D8F-D01DF419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F858-44C5-4124-B744-83B7954F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C2B6-C0C5-40E0-9526-17F07577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637-6F2A-4F6C-B55E-BC1D3415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74D0-8A5B-46C5-92C2-B886C44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F2F9-773A-4191-9C7B-16118D8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0738-5D03-42A8-9915-456F4C79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1B6-F50D-4551-B3DB-E0A2CC7E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CE24-0B83-4192-8271-822FB27C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271-0B6A-419C-9E79-7682D7A4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B24-2FBF-4FEA-93E6-64ABC97B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8D8-1EB8-4C9B-9441-9BD32319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BC3-B221-4B87-B57A-0FD81B20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737-F18C-4A07-A74B-9F5AEC0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56F-9EEA-4293-B74E-3B309C63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B3C-48F7-46CD-AC19-65C457A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2B79-4636-43C1-AF58-6EE07779B697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3A1A-838C-4A13-AC14-BE55775DFA2F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Embedded%20Sound%201" TargetMode="External"/><Relationship Id="rId4" Type="http://schemas.microsoft.com/office/2007/relationships/media" Target="file:///tmp/home/.config/libreoffice/4/user/gallery/Embedded%20Sound%201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How to treat a Nosebleed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5105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By John Hernley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62200" y="1676520"/>
            <a:ext cx="2019600" cy="30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8188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34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erdana"/>
              </a:rPr>
              <a:t>A bloody nose can occur without warning.</a:t>
            </a:r>
            <a:endParaRPr b="0" lang="en-US" sz="3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auses of Nosebleeds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n injury such as a broken nose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Being in a dry place for a long time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By a cold (causes stress on nasal passageways)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224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How to treat a bloody nose.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topping a nosebleed is not difficult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Victim should sit down and lean slightly forward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Bow his or her head low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Firmly pinch the nose for 5 minute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f bleeding persists, get medical help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7:35Z</dcterms:created>
  <dc:creator>kms kms</dc:creator>
  <dc:description/>
  <dc:language>en-US</dc:language>
  <cp:lastModifiedBy>Kraybill Campus LMS</cp:lastModifiedBy>
  <dcterms:modified xsi:type="dcterms:W3CDTF">2011-05-26T15:58:36Z</dcterms:modified>
  <cp:revision>8</cp:revision>
  <dc:subject/>
  <dc:title>PowerPoint Presentation</dc:title>
</cp:coreProperties>
</file>